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7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drumroll.wav" ContentType="audio/x-wav"/>
  <Override PartName="/ppt/media/camera.wav" ContentType="audio/x-wav"/>
  <Override PartName="/ppt/media/explode.wav" ContentType="audio/x-wav"/>
  <Override PartName="/ppt/media/glass.wav" ContentType="audio/x-wav"/>
  <Override PartName="/ppt/media/applause.wav" ContentType="audio/x-wav"/>
  <Override PartName="/ppt/media/image5.wmf" ContentType="image/x-wmf"/>
  <Override PartName="/ppt/media/image6.wmf" ContentType="image/x-wmf"/>
  <Override PartName="/ppt/media/driveby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7C9-945B-42D8-A52C-D4DE65D1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9B46-13E4-4BDD-B454-24915198B3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FF0-C31A-49F9-9C22-335D1DBCB97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ED74-FB51-4122-AED6-75A99936F4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010-FCE2-4B12-955A-56AC8131DB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BDD8-5287-4C23-9CCB-B6EBE809501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E15F-893A-4A1C-937F-A5B0017EEB3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58F-993D-4F74-B932-F94CE190CC6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FF17-2BB9-411F-85BF-66324713BB5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AE8-8A65-4420-AD9D-8D8947E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8BE-A62E-410C-BBA8-AD855B3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729-AE77-45A4-876B-B824DB0A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546-5566-4AA7-865D-7084F720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FCF9-615B-48C3-9309-AFF23527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6C1F-CC33-4562-8E9D-36033132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39E7-07E0-4B25-8901-81F9702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B65F-5DD3-4491-B785-4637E8D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D63F-DCCB-4765-9BE4-C9951A5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20DD-F1F0-45DC-8DFC-32629267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01E8-CBFA-4439-9C79-D58116A3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C6C-F43A-4AF7-BF37-3A17B213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BF8C-E1F9-4D84-83E5-D2D65339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0ABD-A607-4DA2-A72A-FD93079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4165-EEFC-4E4A-BE12-4BFCFFDD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DAC2-0DF3-41E6-A52F-D62F6B2C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FC5-FF9F-489B-AB4E-C2F9BF71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A52-0B83-45B5-A186-89BC04C2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892-E488-48E1-AFBA-F4AEEA41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1CB-58CE-4783-AC5A-7FE94413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D7A-D21E-4478-8B49-94656A3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FFF-23AA-4268-9CB6-CEFA17F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D4E-CBE3-4D7A-B84E-4D43796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BBC-F219-4849-9621-92CF67D8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7BC-D7BE-421D-B7EF-5516CF4DD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E782-FB6E-4196-879D-7A83BC8E46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arruda@lcdoe.org" TargetMode="External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Balloon XBd BT"/>
              </a:rPr>
              <a:t>ESL, Now What?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810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L Teaching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imple and Effective Pract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Georgia Arru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PP1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Lincoln County Department of Edu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1717"/>
                </a:solidFill>
                <a:latin typeface="Times New Roman"/>
              </a:rPr>
              <a:t>September 13, 20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garruda@lcdoe.or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does the research say?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inority students do not have to be fluent in oral English before they engage in reading practic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he affective filter must be lowered in order to effectively learn as second languag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mprehension precedes produc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portant benefits of supporting the English language learner is applied when integration of students culture is evid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gh-Quality instructional strategies are needed to meet the needs of diverse learn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arning and instructional considerations must be applied when teaching an English languag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rategies applied within the classroom are crucial for educational success for the English language learn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Keys to Succes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aintain accurate student portfolios to monitor student progres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lign curriculum to meet both ESL and State academic standard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odify curriculum as needed to promote student succes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pply acceptable accommodations for test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tudent culture should be reflected within the classro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327636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Myths and Misconception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mmigrant students are not entitled to ESL services – False, actually all students regardless of their immigrant status are entitle to a free public edu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unding for ESL services must be supplied by each school individually – False, at the state level there is Basic Education Program (BEP) funding designed for districts with identified ELL stud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ny teacher or teachers aide may provide the services needed for ELL students – False, in Tennessee a teacher must have and ESL endorsement or on an approved waiver to provide instruc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arents and students can waive ESL services at any time – False, no student or parent can deny ESL services until the student is the age of 18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You can place a ELL student in Special Education until they have gained fluency in English – False, students can not be place in Special Education classes unless they have been in a traditional classroom for a minimum of two consecutive years and have been tested and met Special Education requirement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trategies for Teacher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active lessons with hands-on activities and cooperative learn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couragement of creativity and discover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rsatility and flexibil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hancement and support of the mainstream curricul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pportunities for all students to feel successfu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gration of language skills, thinking skills, and content knowledg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19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trategies for Studen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it in the front of the classro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Frontload vocabular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ooperative learning activi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eer tuto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tended ti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odification of curriculum outcomes outlin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Access to students particular learning sty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rovide illustrations when need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upplementary books (translation dictionar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Use graphic organiz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extbooks on tap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3505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Parents of ESL Student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 of ELL students need help t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derstand how U.S. school systems work in gene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derstand how their local school district and schools oper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w what is expected of them by school and district personn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articip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5410080" y="175248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Association for Bilingual Education (NABE) http://www.nabe.org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Clearinghouse for English Language Acquisition &amp; Language Instruction Educational Programs (NCELA) http://www.ncela.gwu.ed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eachers of English to Speakers of Other Languages (TESOL) http://www.tesol.or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National Center for ESL Literacy Education (NCLE) http://www.cal.org/n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 ESL Links http://esl.net/eslres.ht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esources for Language Teacher and Learners http://www.fredriley.org.uk/call/langsite/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SL Lesson Plans and Resources http://www.csun.edu/~hcedu013/eslplans.htm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1:35:11Z</dcterms:created>
  <dc:creator>Registered Copy</dc:creator>
  <dc:description/>
  <dc:language>en-US</dc:language>
  <cp:lastModifiedBy>Georgia Arruda</cp:lastModifiedBy>
  <dcterms:modified xsi:type="dcterms:W3CDTF">2010-09-14T03:08:25Z</dcterms:modified>
  <cp:revision>15</cp:revision>
  <dc:subject/>
  <dc:title>ESL, Now What?</dc:title>
</cp:coreProperties>
</file>